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04A0-BD9D-4943-824C-96E41C3F6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86EB-70AB-4491-BA4A-195210F11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4F87-F967-45E0-BC19-7C8D46639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36BB-D7DC-4F3B-A930-F3DA942BB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4D664-74E7-4AA8-8C22-6E42A29B6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2EE39-7A0E-4EEE-8F16-C05EFDACC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3341C-E55E-40C3-B5C2-5920F1043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64D1B-05C0-4918-937C-597B27A1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9DD76-87DD-49BA-B5EA-65590FBBE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E4FA5-77C1-4F4F-A3BF-7A8FDC4CB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1984D-175A-49E0-857B-C13D46C9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A46F-9CCD-43AD-A531-0E771B807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03089-18AC-467A-8DD1-796E7C9A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77C55-25CA-4AD8-B300-EEAFDDAA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80B97-174B-4F00-A752-77B63E4B6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E3DC9-0589-4420-8BD7-99B86430E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75EE6-89BF-4F58-8AB9-13EE9A1BC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00AF-59CA-48CC-9C05-9B8C90A7C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9EA5-0E72-403E-AD76-BB255CDE6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60BB-FBE4-4912-8902-D2E478AB8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AA0B-A0C2-43AA-9F2F-7951EB835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AC75-83B2-4117-9CF0-B6BB0214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4223-969D-47DB-9275-994CDB25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8EDC-6E61-4D95-8BDB-9EE6E086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0D9D1-E66E-4F78-BBB3-B64BA13A3D2C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89C14-FB9D-4CE9-A887-F4F1EF8EC685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1219320" y="54860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hallenge #4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2819520" cy="24224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 txBox="1"/>
          <p:nvPr/>
        </p:nvSpPr>
        <p:spPr>
          <a:xfrm>
            <a:off x="228600" y="2057400"/>
            <a:ext cx="868680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Atomic Math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15" name="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eaeaea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85800" y="304920"/>
            <a:ext cx="733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Fill in the correct number for each letter </a:t>
            </a:r>
            <a:br>
              <a:rPr sz="2400"/>
            </a:b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using the information provided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228600" y="1397160"/>
          <a:ext cx="8686800" cy="4063680"/>
        </p:xfrm>
        <a:graphic>
          <a:graphicData uri="http://schemas.openxmlformats.org/drawingml/2006/table">
            <a:tbl>
              <a:tblPr/>
              <a:tblGrid>
                <a:gridCol w="1447920"/>
                <a:gridCol w="1447560"/>
                <a:gridCol w="1447920"/>
                <a:gridCol w="1447920"/>
                <a:gridCol w="1447560"/>
                <a:gridCol w="1447920"/>
              </a:tblGrid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lement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tomic Number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tomic Mass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# of Protons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# of Neutrons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# of Electrons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g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2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24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5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6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K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G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39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9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"/>
          <p:cNvSpPr/>
          <p:nvPr/>
        </p:nvSpPr>
        <p:spPr>
          <a:xfrm>
            <a:off x="4749840" y="256536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248520" y="259092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696080" y="2590920"/>
            <a:ext cx="106704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314880" y="359100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00600" y="359100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696080" y="3591000"/>
            <a:ext cx="106704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F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905120" y="457200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G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800600" y="457200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248520" y="457200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I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685800" y="304920"/>
            <a:ext cx="733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304920" y="1397160"/>
          <a:ext cx="8686800" cy="4063680"/>
        </p:xfrm>
        <a:graphic>
          <a:graphicData uri="http://schemas.openxmlformats.org/drawingml/2006/table">
            <a:tbl>
              <a:tblPr/>
              <a:tblGrid>
                <a:gridCol w="1447920"/>
                <a:gridCol w="1447560"/>
                <a:gridCol w="1447920"/>
                <a:gridCol w="1447920"/>
                <a:gridCol w="1447560"/>
                <a:gridCol w="1447920"/>
              </a:tblGrid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lement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tomic #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tomic Mass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rotons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Neutrons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lectrons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g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2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24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5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6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K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G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39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9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"/>
          <p:cNvSpPr/>
          <p:nvPr/>
        </p:nvSpPr>
        <p:spPr>
          <a:xfrm>
            <a:off x="4749840" y="256536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248520" y="259092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696080" y="2590920"/>
            <a:ext cx="106704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314880" y="359100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31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800600" y="359100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15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696080" y="3591000"/>
            <a:ext cx="106704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15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905120" y="457200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19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00600" y="457200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19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248520" y="457200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02:03:21Z</dcterms:created>
  <dc:creator>Tracy Trimpe</dc:creator>
  <dc:description/>
  <dc:language>en-US</dc:language>
  <cp:lastModifiedBy>PritchaJ</cp:lastModifiedBy>
  <dcterms:modified xsi:type="dcterms:W3CDTF">2011-06-01T13:47:01Z</dcterms:modified>
  <cp:revision>10</cp:revision>
  <dc:subject/>
  <dc:title>Slide 1</dc:title>
</cp:coreProperties>
</file>